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5E11-FC9C-4832-AEAB-14AF64892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E293-C2B2-48F0-915F-3C4330B87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368F-1E0C-471F-9F6E-50C30057A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0AF8-5BAE-48E7-AC37-42B3E4968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DB10-1F80-4679-B454-E024A59E1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76F7-4FCC-455F-B486-5BE7C0D74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-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 conferences protoc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rating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f Teacher Evalu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e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46BF-D352-4127-8975-05E1799A5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-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D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 conferences protoc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rating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of Teacher Evalu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e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5603-0420-4261-91A2-95A5622CD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ome examples they might list for “Where are we now?” might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L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rong 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amiliarity with AC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gital learning resources/opportunities for teac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RBT Train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 plan for implementation of Additional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NC FALC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4AEB-C3C1-44B5-B2A9-4D64FFB68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A05A-6622-4EC5-9563-B79BA38E0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3261-3CF7-4197-830C-BA2476BA4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udio:  Today, we encourage you to use Today’s Meet, our live chat to make comments and ask questions that will help meet the needs of your LEA/Charter.  Get started by using your iPad, Laptop, or smart phone to access the website you see on this slide (say website alou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You will be asked to provide your name and your LEA/Charter, and then you can join our live c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9825-717A-4F11-A44B-30D96B579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0045-3328-4FA2-B35B-733B8C0FB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AF04-6901-4441-A803-AD43FB105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EDB5-CC8C-452C-93C8-039A86535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9CA4-3F21-4BCE-A055-A76756B359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CCD8-97AC-4CD4-A555-0349792C7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0D7C-9D8B-417E-B5BB-2292F07AA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F2BD-3B8F-4CDB-A3E8-10DFF5D4D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3F3B-E8BF-4329-BC8F-04931FAB0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2F68-3E3C-4EE3-963E-C34C24148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85CA-9E42-4784-B513-C6484926D4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9924-4266-4676-8AF1-35F7E26433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EAB0-DDB4-4A0D-B857-37F7F56064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5E80-C455-42DC-A5B0-A2309F67B3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2612-B7F5-4856-A3A3-536E3AFACE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C84B-5987-4CB3-AB64-EDE0187F78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3C0E-DE80-40AB-940C-C87CA3372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B51C-6347-442E-B865-40AB54C83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71C3-49C0-4993-B6CA-F135586BFF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2EB5-3F39-4369-B5DB-AF2A98D9B7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2C54-C6EB-45EE-9F7A-42D4CFF14C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29BF-7809-4C19-BD52-662211EC84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DFB3-F935-400E-95CA-9D190877A4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8C70-615E-4741-ACAC-FA20DD78D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9477-ED80-4387-B0FB-BFC61CB5E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666E-B2B6-49EE-8B31-9142E7A0D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7AB7-540D-4074-91BB-20A11BF8E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B42F-A08A-4A09-9B95-2D198B4CC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9037-C997-4FEA-BB39-723037424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6A04-5409-4C4C-8225-B1E22882A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WhitebackPPTCover3_3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FA84-A179-4860-AEE3-19B70E65AD4C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WhitebackPPTCover3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d43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155C-2EA1-4BAA-91C2-74C025C971F2}" type="slidenum">
              <a:rPr b="0" lang="en-US" sz="14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85840" y="1447920"/>
            <a:ext cx="4876920" cy="28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bc36"/>
                </a:solidFill>
                <a:latin typeface="Arial"/>
              </a:rPr>
              <a:t>NC Online Evaluation System Training</a:t>
            </a:r>
            <a:endParaRPr b="1" lang="en-US" sz="40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Ocracoke School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Hyde County Public Schools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October 6, 2011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http://region1rttt.wikispaces.com/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</p:txBody>
      </p:sp>
      <p:pic>
        <p:nvPicPr>
          <p:cNvPr id="89" name="Picture 5" descr="blackscreenslogo_centertext.gif"/>
          <p:cNvPicPr/>
          <p:nvPr/>
        </p:nvPicPr>
        <p:blipFill>
          <a:blip r:embed="rId1"/>
          <a:stretch/>
        </p:blipFill>
        <p:spPr>
          <a:xfrm>
            <a:off x="152280" y="1600200"/>
            <a:ext cx="2970360" cy="272088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50B0-D83C-4151-B098-E8CD8475C064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Annual Evaluation Policy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294920"/>
            <a:ext cx="80769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376"/>
                </a:solidFill>
                <a:latin typeface="Arial"/>
              </a:rPr>
              <a:t>Each local board shall adopt a policy requiring career teachers to be evaluated annually.  The annual evaluation requirements shall be met by either:</a:t>
            </a: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(1) Using the Teacher Evaluation Process 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     as set forth in 16 NCAC 6C.0503; or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(2) Using an abbreviated evaluation  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     consisting of Standards One, Four, and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332640" indent="-332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ix of the Teacher Evaluation Process.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The Sixth Standard for Teachers: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0" t="16851" r="0" b="0"/>
          <a:stretch/>
        </p:blipFill>
        <p:spPr>
          <a:xfrm>
            <a:off x="447840" y="1384200"/>
            <a:ext cx="823896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Diagram 5" descr=""/>
          <p:cNvPicPr/>
          <p:nvPr/>
        </p:nvPicPr>
        <p:blipFill>
          <a:blip r:embed="rId1"/>
          <a:stretch/>
        </p:blipFill>
        <p:spPr>
          <a:xfrm>
            <a:off x="901800" y="1030320"/>
            <a:ext cx="7188120" cy="2700360"/>
          </a:xfrm>
          <a:prstGeom prst="rect">
            <a:avLst/>
          </a:prstGeom>
          <a:ln w="0">
            <a:noFill/>
          </a:ln>
        </p:spPr>
      </p:pic>
      <p:pic>
        <p:nvPicPr>
          <p:cNvPr id="131" name="Diagram 7" descr=""/>
          <p:cNvPicPr/>
          <p:nvPr/>
        </p:nvPicPr>
        <p:blipFill>
          <a:blip r:embed="rId2"/>
          <a:stretch/>
        </p:blipFill>
        <p:spPr>
          <a:xfrm>
            <a:off x="901800" y="3700440"/>
            <a:ext cx="7188120" cy="2700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578960" y="304920"/>
            <a:ext cx="58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 Teach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Online Module</a:t>
            </a:r>
            <a:br>
              <a:rPr sz="3800"/>
            </a:b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https://center.ncsu.edu/nc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6294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Getting Started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https://mxweb3.media-x.com/home/ncval/demo/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376"/>
                </a:solidFill>
                <a:latin typeface="Arial"/>
              </a:rPr>
              <a:t>Username: teacherdemo(#1-40) </a:t>
            </a: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376"/>
                </a:solidFill>
                <a:latin typeface="Arial"/>
              </a:rPr>
              <a:t>Password:  123456</a:t>
            </a: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15E6-61D9-4B96-9C4F-D1931B00AF99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24544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Login to the “Live Site”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437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4376"/>
                </a:solidFill>
                <a:latin typeface="Arial"/>
              </a:rPr>
              <a:t>https://mxweb.media-x.com/home/ncval</a:t>
            </a: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376"/>
                </a:solidFill>
                <a:latin typeface="Arial"/>
              </a:rPr>
              <a:t>Username: UID #</a:t>
            </a: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d43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4376"/>
                </a:solidFill>
                <a:latin typeface="Arial"/>
              </a:rPr>
              <a:t>Password:  Personal Password</a:t>
            </a: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2B39-2BFD-478A-9F15-BED2CF62866D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16923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Content Placeholder 6" descr=""/>
          <p:cNvPicPr/>
          <p:nvPr/>
        </p:nvPicPr>
        <p:blipFill>
          <a:blip r:embed="rId1"/>
          <a:stretch/>
        </p:blipFill>
        <p:spPr>
          <a:xfrm>
            <a:off x="682560" y="1444680"/>
            <a:ext cx="3822840" cy="4505400"/>
          </a:xfrm>
          <a:prstGeom prst="rect">
            <a:avLst/>
          </a:prstGeom>
          <a:ln w="0">
            <a:noFill/>
          </a:ln>
        </p:spPr>
      </p:pic>
      <p:pic>
        <p:nvPicPr>
          <p:cNvPr id="144" name="Content Placeholder 7" descr=""/>
          <p:cNvPicPr/>
          <p:nvPr/>
        </p:nvPicPr>
        <p:blipFill>
          <a:blip r:embed="rId2"/>
          <a:stretch/>
        </p:blipFill>
        <p:spPr>
          <a:xfrm>
            <a:off x="298440" y="682560"/>
            <a:ext cx="8242200" cy="5254560"/>
          </a:xfrm>
          <a:prstGeom prst="rect">
            <a:avLst/>
          </a:prstGeom>
          <a:ln w="0">
            <a:noFill/>
          </a:ln>
        </p:spPr>
      </p:pic>
      <p:sp>
        <p:nvSpPr>
          <p:cNvPr id="145" name="Line Callout 1 10"/>
          <p:cNvSpPr/>
          <p:nvPr/>
        </p:nvSpPr>
        <p:spPr>
          <a:xfrm>
            <a:off x="5638680" y="838080"/>
            <a:ext cx="3200400" cy="2667240"/>
          </a:xfrm>
          <a:prstGeom prst="borderCallout1">
            <a:avLst>
              <a:gd name="adj1" fmla="val 18750"/>
              <a:gd name="adj2" fmla="val -8333"/>
              <a:gd name="adj3" fmla="val 49925"/>
              <a:gd name="adj4" fmla="val -26337"/>
            </a:avLst>
          </a:prstGeom>
          <a:solidFill>
            <a:srgbClr val="9c9cdf">
              <a:alpha val="61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 can create a culture of learning to support the implementation of the Common Core State Standards and North Carolina Essential Standards with fidelity by Fall 2012-13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2bc36"/>
                </a:solidFill>
                <a:latin typeface="Arial"/>
                <a:ea typeface="Arial"/>
              </a:rPr>
              <a:t>Possible PDP Goal</a:t>
            </a:r>
            <a:endParaRPr b="1" lang="en-US" sz="36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4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F81E-83BC-4E81-AAC0-5F0A194AF284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questions.jpg"/>
          <p:cNvPicPr/>
          <p:nvPr/>
        </p:nvPicPr>
        <p:blipFill>
          <a:blip r:embed="rId1"/>
          <a:stretch/>
        </p:blipFill>
        <p:spPr>
          <a:xfrm>
            <a:off x="990720" y="685800"/>
            <a:ext cx="69498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Need Help?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Questions about NC Educator Evaluation Tools?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376"/>
                </a:solidFill>
                <a:latin typeface="Arial"/>
              </a:rPr>
              <a:t>Contact Region 1 PD Leads </a:t>
            </a:r>
            <a:endParaRPr b="0" lang="en-US" sz="24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Dianne Meiggs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dianne.meiggs@dpi.nc.gov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252-340-0113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Beth Edwards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elizabeth.edwards@dpi.nc.gov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d4376"/>
                </a:solidFill>
                <a:latin typeface="Arial"/>
              </a:rPr>
              <a:t>252-916-6842</a:t>
            </a:r>
            <a:endParaRPr b="0" lang="en-US" sz="1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ining Materials located @ www.ncpublicschools.org/profdev/training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80AD-282D-4A3E-ACAE-0736BA3E8690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 rot="20986200">
            <a:off x="6490800" y="210600"/>
            <a:ext cx="2529000" cy="16192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Arial"/>
              </a:rPr>
              <a:t>Ticket out the Door</a:t>
            </a:r>
            <a:endParaRPr b="1" lang="en-US" sz="4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376"/>
                </a:solidFill>
                <a:latin typeface="Arial Narrow"/>
              </a:rPr>
              <a:t>You may complete the </a:t>
            </a:r>
            <a:endParaRPr b="0" lang="en-US" sz="4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d4376"/>
                </a:solidFill>
                <a:latin typeface="Arial Narrow"/>
              </a:rPr>
              <a:t>Ticket out the Door </a:t>
            </a:r>
            <a:endParaRPr b="0" lang="en-US" sz="4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376"/>
                </a:solidFill>
                <a:latin typeface="Arial Narrow"/>
              </a:rPr>
              <a:t>by clicking below</a:t>
            </a:r>
            <a:endParaRPr b="0" lang="en-US" sz="4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4376"/>
                </a:solidFill>
                <a:latin typeface="Arial Narrow"/>
              </a:rPr>
              <a:t>Reflection</a:t>
            </a:r>
            <a:endParaRPr b="0" lang="en-US" sz="4800" spc="-1" strike="noStrike">
              <a:solidFill>
                <a:srgbClr val="0d4376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7238880" y="6324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ttp://www.psdgraphics.com/backgrounds/sticky-notes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 rot="20588400">
            <a:off x="7054200" y="809640"/>
            <a:ext cx="145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do I Need N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2bc36"/>
                </a:solidFill>
                <a:latin typeface="Arial"/>
              </a:rPr>
              <a:t>Today’s Meet</a:t>
            </a:r>
            <a:br>
              <a:rPr sz="3400"/>
            </a:br>
            <a:r>
              <a:rPr b="1" lang="en-US" sz="3400" spc="-1" strike="noStrike">
                <a:solidFill>
                  <a:srgbClr val="a2bc36"/>
                </a:solidFill>
                <a:latin typeface="Arial"/>
              </a:rPr>
              <a:t>http://todaysmeet.com/Ocracoke</a:t>
            </a:r>
            <a:br>
              <a:rPr sz="3400"/>
            </a:br>
            <a:r>
              <a:rPr b="1" lang="en-US" sz="3400" spc="-1" strike="noStrike">
                <a:solidFill>
                  <a:srgbClr val="a2bc36"/>
                </a:solidFill>
                <a:latin typeface="Arial"/>
              </a:rPr>
              <a:t> </a:t>
            </a:r>
            <a:br>
              <a:rPr sz="3400"/>
            </a:br>
            <a:endParaRPr b="1" lang="en-US" sz="3400" spc="-1" strike="noStrike">
              <a:solidFill>
                <a:srgbClr val="a2bc36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87320" y="1828800"/>
            <a:ext cx="7394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2bc36"/>
                </a:solidFill>
                <a:latin typeface="Arial"/>
              </a:rPr>
              <a:t>Our Purpose</a:t>
            </a:r>
            <a:endParaRPr b="1" lang="en-US" sz="3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o provide you with an overview on the use of the online North Carolina Educator Evaluation System (NCEES) and practice with the online demo.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613A-A1CF-48C4-9C22-4B842F0A9D0B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MP900443455.JPG"/>
          <p:cNvPicPr/>
          <p:nvPr/>
        </p:nvPicPr>
        <p:blipFill>
          <a:blip r:embed="rId1"/>
          <a:stretch/>
        </p:blipFill>
        <p:spPr>
          <a:xfrm>
            <a:off x="4800600" y="3556080"/>
            <a:ext cx="35863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bc36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Introduction – Getting to Know You!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Review of Evaluation Process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Practice using the Online Evaluation System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Closing / Q&amp;A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d4376"/>
                </a:solidFill>
                <a:latin typeface="Arial"/>
              </a:rPr>
              <a:t>Ticket out the Door</a:t>
            </a: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d43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d4376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7CDF-F363-483D-A838-717F0FE31E9E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:\Users\eedwards\AppData\Local\Microsoft\Windows\Temporary Internet Files\Content.IE5\PR30TM4L\MP900401668[1].jpg"/>
          <p:cNvPicPr/>
          <p:nvPr/>
        </p:nvPicPr>
        <p:blipFill>
          <a:blip r:embed="rId1"/>
          <a:stretch/>
        </p:blipFill>
        <p:spPr>
          <a:xfrm>
            <a:off x="4876920" y="3505320"/>
            <a:ext cx="37494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Placeholder 4" descr="Teaching Standards.png"/>
          <p:cNvPicPr/>
          <p:nvPr/>
        </p:nvPicPr>
        <p:blipFill>
          <a:blip r:embed="rId1"/>
          <a:srcRect l="0" t="20108" r="0" b="20108"/>
          <a:stretch/>
        </p:blipFill>
        <p:spPr>
          <a:xfrm>
            <a:off x="304920" y="1447920"/>
            <a:ext cx="198108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198432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3733920" y="1523880"/>
            <a:ext cx="218124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Right Arrow 9"/>
          <p:cNvSpPr/>
          <p:nvPr/>
        </p:nvSpPr>
        <p:spPr>
          <a:xfrm>
            <a:off x="2743200" y="3124080"/>
            <a:ext cx="9907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66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ight Arrow 10"/>
          <p:cNvSpPr/>
          <p:nvPr/>
        </p:nvSpPr>
        <p:spPr>
          <a:xfrm>
            <a:off x="6019920" y="3124080"/>
            <a:ext cx="990360" cy="60984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666666"/>
          </a:solidFill>
          <a:ln w="936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ight Brace 12"/>
          <p:cNvSpPr/>
          <p:nvPr/>
        </p:nvSpPr>
        <p:spPr>
          <a:xfrm>
            <a:off x="2362320" y="1676520"/>
            <a:ext cx="457200" cy="35812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3581280"/>
              <a:gd name="textAreaBottom" fmla="*/ 356940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5"/>
                  <a:pt x="10800" y="230"/>
                </a:cubicBezTo>
                <a:lnTo>
                  <a:pt x="10800" y="10570"/>
                </a:lnTo>
                <a:cubicBezTo>
                  <a:pt x="10800" y="10685"/>
                  <a:pt x="16200" y="10800"/>
                  <a:pt x="21600" y="10800"/>
                </a:cubicBezTo>
                <a:cubicBezTo>
                  <a:pt x="16200" y="10800"/>
                  <a:pt x="10800" y="10915"/>
                  <a:pt x="10800" y="11030"/>
                </a:cubicBezTo>
                <a:lnTo>
                  <a:pt x="10800" y="21370"/>
                </a:lnTo>
                <a:cubicBezTo>
                  <a:pt x="10800" y="2148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943600" y="3276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3048120" y="5257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ssessing teache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ing a professional growth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ght Arrow 15"/>
          <p:cNvSpPr/>
          <p:nvPr/>
        </p:nvSpPr>
        <p:spPr>
          <a:xfrm rot="5400000">
            <a:off x="4381560" y="4533840"/>
            <a:ext cx="838080" cy="6098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66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762120" y="304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Evaluation Instr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7010280" y="1447920"/>
            <a:ext cx="190512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ffectiv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d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al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7"/>
          <p:cNvGrpSpPr/>
          <p:nvPr/>
        </p:nvGrpSpPr>
        <p:grpSpPr>
          <a:xfrm>
            <a:off x="1295280" y="380880"/>
            <a:ext cx="3276720" cy="3048120"/>
            <a:chOff x="1295280" y="380880"/>
            <a:chExt cx="3276720" cy="3048120"/>
          </a:xfrm>
        </p:grpSpPr>
        <p:sp>
          <p:nvSpPr>
            <p:cNvPr id="114" name="Pie 19"/>
            <p:cNvSpPr/>
            <p:nvPr/>
          </p:nvSpPr>
          <p:spPr>
            <a:xfrm>
              <a:off x="1295280" y="380880"/>
              <a:ext cx="3276720" cy="3048120"/>
            </a:xfrm>
            <a:custGeom>
              <a:avLst/>
              <a:gdLst>
                <a:gd name="textAreaLeft" fmla="*/ 959760 w 3276720"/>
                <a:gd name="textAreaRight" fmla="*/ 3277080 w 3276720"/>
                <a:gd name="textAreaTop" fmla="*/ 89280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1538345" h="1538345">
                  <a:moveTo>
                    <a:pt x="0" y="1538345"/>
                  </a:moveTo>
                  <a:lnTo>
                    <a:pt x="0" y="1538345"/>
                  </a:lnTo>
                  <a:arcTo wR="1538345" hR="1538345" stAng="-10799996" swAng="5400002"/>
                  <a:lnTo>
                    <a:pt x="1538345" y="1538345"/>
                  </a:lnTo>
                  <a:close/>
                </a:path>
              </a:pathLst>
            </a:custGeom>
            <a:solidFill>
              <a:srgbClr val="00b05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ie 12"/>
            <p:cNvSpPr/>
            <p:nvPr/>
          </p:nvSpPr>
          <p:spPr>
            <a:xfrm>
              <a:off x="2255760" y="1274760"/>
              <a:ext cx="2316240" cy="21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71280" bIns="71280" anchor="ctr">
              <a:noAutofit/>
            </a:bodyPr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TEP 1: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raining and Ori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25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Group 8" descr=""/>
          <p:cNvPicPr/>
          <p:nvPr/>
        </p:nvPicPr>
        <p:blipFill>
          <a:blip r:embed="rId1"/>
          <a:stretch/>
        </p:blipFill>
        <p:spPr>
          <a:xfrm>
            <a:off x="4584600" y="365040"/>
            <a:ext cx="3279960" cy="3084480"/>
          </a:xfrm>
          <a:prstGeom prst="rect">
            <a:avLst/>
          </a:prstGeom>
          <a:ln w="0">
            <a:noFill/>
          </a:ln>
        </p:spPr>
      </p:pic>
      <p:pic>
        <p:nvPicPr>
          <p:cNvPr id="117" name="Group 9" descr=""/>
          <p:cNvPicPr/>
          <p:nvPr/>
        </p:nvPicPr>
        <p:blipFill>
          <a:blip r:embed="rId2"/>
          <a:stretch/>
        </p:blipFill>
        <p:spPr>
          <a:xfrm>
            <a:off x="4584600" y="3462480"/>
            <a:ext cx="3284640" cy="3035160"/>
          </a:xfrm>
          <a:prstGeom prst="rect">
            <a:avLst/>
          </a:prstGeom>
          <a:ln w="0">
            <a:noFill/>
          </a:ln>
        </p:spPr>
      </p:pic>
      <p:pic>
        <p:nvPicPr>
          <p:cNvPr id="118" name="Group 10" descr=""/>
          <p:cNvPicPr/>
          <p:nvPr/>
        </p:nvPicPr>
        <p:blipFill>
          <a:blip r:embed="rId3"/>
          <a:stretch/>
        </p:blipFill>
        <p:spPr>
          <a:xfrm>
            <a:off x="1274760" y="3486240"/>
            <a:ext cx="3316320" cy="3011400"/>
          </a:xfrm>
          <a:prstGeom prst="rect">
            <a:avLst/>
          </a:prstGeom>
          <a:ln w="0">
            <a:noFill/>
          </a:ln>
        </p:spPr>
      </p:pic>
      <p:sp>
        <p:nvSpPr>
          <p:cNvPr id="119" name="Circular Arrow 11"/>
          <p:cNvSpPr/>
          <p:nvPr/>
        </p:nvSpPr>
        <p:spPr>
          <a:xfrm>
            <a:off x="4302000" y="2971800"/>
            <a:ext cx="574920" cy="612720"/>
          </a:xfrm>
          <a:custGeom>
            <a:avLst/>
            <a:gdLst>
              <a:gd name="textAreaLeft" fmla="*/ 109440 w 574920"/>
              <a:gd name="textAreaRight" fmla="*/ 465480 w 574920"/>
              <a:gd name="textAreaTop" fmla="*/ 114840 h 612720"/>
              <a:gd name="textAreaBottom" fmla="*/ 497880 h 612720"/>
            </a:gdLst>
            <a:ahLst/>
            <a:rect l="textAreaLeft" t="textAreaTop" r="textAreaRight" b="textAreaBottom"/>
            <a:pathLst>
              <a:path w="574675" h="612775">
                <a:moveTo>
                  <a:pt x="35917" y="306387"/>
                </a:moveTo>
                <a:lnTo>
                  <a:pt x="35917" y="306387"/>
                </a:lnTo>
                <a:arcTo wR="251420" hR="270470" stAng="10800000" swAng="9822826"/>
                <a:lnTo>
                  <a:pt x="564597" y="235499"/>
                </a:lnTo>
                <a:lnTo>
                  <a:pt x="502841" y="306388"/>
                </a:lnTo>
                <a:lnTo>
                  <a:pt x="420928" y="235499"/>
                </a:lnTo>
                <a:lnTo>
                  <a:pt x="455098" y="235499"/>
                </a:lnTo>
                <a:lnTo>
                  <a:pt x="455098" y="235499"/>
                </a:lnTo>
                <a:arcTo wR="179586" hR="198636" stAng="-1374400" swAng="-9425600"/>
                <a:close/>
              </a:path>
            </a:pathLst>
          </a:custGeom>
          <a:solidFill>
            <a:srgbClr val="daede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ircular Arrow 12"/>
          <p:cNvSpPr/>
          <p:nvPr/>
        </p:nvSpPr>
        <p:spPr>
          <a:xfrm rot="10800000">
            <a:off x="4301640" y="3300120"/>
            <a:ext cx="574920" cy="662040"/>
          </a:xfrm>
          <a:custGeom>
            <a:avLst/>
            <a:gdLst>
              <a:gd name="textAreaLeft" fmla="*/ 109440 w 574920"/>
              <a:gd name="textAreaRight" fmla="*/ 465480 w 574920"/>
              <a:gd name="textAreaTop" fmla="*/ 122400 h 662040"/>
              <a:gd name="textAreaBottom" fmla="*/ 539640 h 662040"/>
            </a:gdLst>
            <a:ahLst/>
            <a:rect l="textAreaLeft" t="textAreaTop" r="textAreaRight" b="textAreaBottom"/>
            <a:pathLst>
              <a:path w="574675" h="661987">
                <a:moveTo>
                  <a:pt x="35917" y="330993"/>
                </a:moveTo>
                <a:lnTo>
                  <a:pt x="35917" y="330993"/>
                </a:lnTo>
                <a:arcTo wR="251420" hR="295076" stAng="10800000" swAng="9820062"/>
                <a:lnTo>
                  <a:pt x="566316" y="259513"/>
                </a:lnTo>
                <a:lnTo>
                  <a:pt x="502841" y="330994"/>
                </a:lnTo>
                <a:lnTo>
                  <a:pt x="422647" y="259512"/>
                </a:lnTo>
                <a:lnTo>
                  <a:pt x="457468" y="259512"/>
                </a:lnTo>
                <a:lnTo>
                  <a:pt x="457468" y="259512"/>
                </a:lnTo>
                <a:arcTo wR="179586" hR="223242" stAng="-1367391" swAng="-9432609"/>
                <a:close/>
              </a:path>
            </a:pathLst>
          </a:custGeom>
          <a:solidFill>
            <a:srgbClr val="daede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tle 3"/>
          <p:cNvSpPr/>
          <p:nvPr/>
        </p:nvSpPr>
        <p:spPr>
          <a:xfrm>
            <a:off x="457200" y="304920"/>
            <a:ext cx="8229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eacher Evaluation Proce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8CF0-0D2C-45DD-B667-2E7367950640}" type="slidenum">
              <a:rPr b="0" lang="en-US" sz="14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NC Professional Teaching Standards</a:t>
            </a:r>
            <a:endParaRPr b="1" lang="en-US" sz="3600" spc="-1" strike="noStrike">
              <a:solidFill>
                <a:srgbClr val="a2bc3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tandard 1: Teachers Demonstrate Leadership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tandard 2: Teachers Establish a Respectful Environment for Diverse Population of Students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tandard 3: Teachers Know the Content They Teach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tandard 4: Teachers Facilitate Learning for Their Students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buClr>
                <a:srgbClr val="24529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4376"/>
                </a:solidFill>
                <a:latin typeface="Arial"/>
              </a:rPr>
              <a:t>Standard 5: Teachers Reflect on Their Practice</a:t>
            </a: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437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Diagram 5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577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5:23:58Z</dcterms:created>
  <dc:creator>dpi</dc:creator>
  <dc:description/>
  <dc:language>en-US</dc:language>
  <cp:lastModifiedBy>eedwards</cp:lastModifiedBy>
  <dcterms:modified xsi:type="dcterms:W3CDTF">2011-10-06T00:49:15Z</dcterms:modified>
  <cp:revision>89</cp:revision>
  <dc:subject/>
  <dc:title>Slide 1</dc:title>
</cp:coreProperties>
</file>